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A16-6A30-4CA3-B44C-2AD7233B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5A2-5D4F-4FAF-BD36-FCEF42A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EEF-3494-4EA2-A9D4-F0FEC773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EB2-A832-46E3-9CA6-95FF30C0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4D9-B2F0-4AD6-9206-34635518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27CF-9EA4-4098-9862-7A37CC2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329-FC6C-4B03-AF6A-D6C900DD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3F8A-9DD5-4C83-97D9-0454751B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8922-5E14-4C00-9D09-C0091D0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455D-DA11-447C-8BBA-DD676F2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A09C-FC64-4B3A-89F8-69762407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F60-8415-45FC-98DF-24C89C42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3119-EF23-4150-BC07-0111D5C9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DC22-1081-47B1-B054-EE1B1B0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DE0C-38D5-4AC6-AD0C-74251A95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6F46-84D7-4332-B3AD-83DFBAA1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288F-D65E-4A6D-9FA9-2FD4440F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F1A-4D72-4590-A76A-D46143C0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9D9-5A1E-45F1-B8F1-8201E730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A67-00A0-47D2-9460-D294D94D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C92-50E1-4977-A8E9-6890C8EF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EA1-C78D-48C4-9813-E1EC5176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220-D14E-4BBE-BAEA-8A98EE4C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853-FE9D-4970-A284-CFD6277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543E-E2F9-44DC-97A7-55558EDE8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7796-2E2C-40F4-9F75-8B34D206A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tosis Review and Meio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 of mitosi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two new identical daughter cells from 1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regular somatic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962520" cy="3424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iosi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4 genetically different haploid  sex cells from 1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28573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sex cel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 cells are haploi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loid:  containing half the amount of genetic material as original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omatic cells have 46 chrom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ex cells only have 2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3472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s of mei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2 di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MA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o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9824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31:26Z</dcterms:created>
  <dc:creator>Tera Linn</dc:creator>
  <dc:description/>
  <dc:language>en-US</dc:language>
  <cp:lastModifiedBy>Tera Linn</cp:lastModifiedBy>
  <dcterms:modified xsi:type="dcterms:W3CDTF">2009-03-25T20:56:13Z</dcterms:modified>
  <cp:revision>2</cp:revision>
  <dc:subject/>
  <dc:title>Mitosis Review and Meiosis</dc:title>
</cp:coreProperties>
</file>